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811E-0AAD-4675-BEE4-B2CBD13BA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2519-5D0F-4876-8899-A79A032C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13E2-CACA-4467-A652-77D27FEF0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B1E8-B7A3-4242-803D-32A57ACD6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F5D6-27EF-48B8-BC93-4BC407335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CFC6-00DB-47C8-B311-D09959C3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EA07-7E7B-4C28-985C-8F0F68AA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02F0-A589-491C-B31D-FBF94325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D974-2C9F-437F-8E81-32686ED5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8A85-EF32-4C4C-AC07-81D955C7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3882-4CC6-446C-9698-560BB2A8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0F92-07C2-4FEE-AC61-669916EE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2111-E5F9-4402-9DA9-4A40C207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09D7-AB9A-4107-B3CD-047C4C47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B25C-1412-429B-9B5F-5D55851B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2BA1-9314-4689-92EA-570420EFE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88D0-470E-4B02-A7A8-2C429DA93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994E-C9D4-4F68-8414-DF0B8B00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34A9-5541-4C6F-AA5C-BB78FD18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47EA-A258-4472-88A6-5778D6D6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0078-C55E-436F-A903-0E704E96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1F87-D151-43DE-AC0F-E6ED665E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5FAB-EB40-4C69-9108-9F85A22F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0435-D1EB-4F0B-B724-6D1C3487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70564C-B513-4EF5-A455-3B37E549FB6E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D6AAD9-8333-4D2C-A63C-57A7EDBE96B1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F5EFD6-7C5C-450D-A934-9C6E865C87CA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648979-C3EA-4295-AB76-2D113DF46327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2"/>
          <a:stretch/>
        </p:blipFill>
        <p:spPr>
          <a:xfrm>
            <a:off x="414360" y="1170000"/>
            <a:ext cx="8242200" cy="23223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ertical route by # 1 receive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ow risk, high reward pas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R has initial advantage on judgment---has had more reps with this type of pas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ow Risk, High Reward Pas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ep Bal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d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ve Yard Highway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ok and Lea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ratio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Contro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 of Contro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icator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Run Parall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ch Hip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rizontal Separatio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ndicator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ead and Eye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and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atural Drif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oundary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Upfield Shoulder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Outside Releas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rm’s Length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igh Poin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rst Access to Footbal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KEY QUESTIONS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4"/>
          <p:cNvSpPr/>
          <p:nvPr/>
        </p:nvSpPr>
        <p:spPr>
          <a:xfrm>
            <a:off x="716040" y="574560"/>
            <a:ext cx="73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iagram #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1965240" y="5959440"/>
            <a:ext cx="8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10"/>
          <p:cNvSpPr/>
          <p:nvPr/>
        </p:nvSpPr>
        <p:spPr>
          <a:xfrm>
            <a:off x="2127240" y="4451400"/>
            <a:ext cx="5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Straight Connector 14"/>
          <p:cNvSpPr/>
          <p:nvPr/>
        </p:nvSpPr>
        <p:spPr>
          <a:xfrm flipV="1">
            <a:off x="1963800" y="3822840"/>
            <a:ext cx="1440" cy="2138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" name="Straight Arrow Connector 16"/>
          <p:cNvCxnSpPr/>
          <p:nvPr/>
        </p:nvCxnSpPr>
        <p:spPr>
          <a:xfrm flipH="1" flipV="1">
            <a:off x="1031040" y="2115360"/>
            <a:ext cx="934200" cy="17074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6" name="TextBox 19"/>
          <p:cNvSpPr/>
          <p:nvPr/>
        </p:nvSpPr>
        <p:spPr>
          <a:xfrm>
            <a:off x="2627280" y="1606680"/>
            <a:ext cx="36147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Receiver attempts to create horizontal separation---fade to the ball.  QB can then lay the ball in.  We must cut off receiver.  Make the QB make a perfect throw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20"/>
          <p:cNvSpPr/>
          <p:nvPr/>
        </p:nvSpPr>
        <p:spPr>
          <a:xfrm>
            <a:off x="282600" y="2887560"/>
            <a:ext cx="109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WR wants grass, real est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21"/>
          <p:cNvSpPr/>
          <p:nvPr/>
        </p:nvSpPr>
        <p:spPr>
          <a:xfrm>
            <a:off x="5438880" y="59612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Q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" name="Straight Arrow Connector 23"/>
          <p:cNvCxnSpPr/>
          <p:nvPr/>
        </p:nvCxnSpPr>
        <p:spPr>
          <a:xfrm flipH="1" flipV="1">
            <a:off x="672480" y="1237680"/>
            <a:ext cx="4786920" cy="4723560"/>
          </a:xfrm>
          <a:prstGeom prst="straightConnector1">
            <a:avLst/>
          </a:prstGeom>
          <a:ln w="25560">
            <a:solidFill>
              <a:srgbClr val="ffffff"/>
            </a:solidFill>
            <a:prstDash val="sysDash"/>
            <a:miter/>
            <a:tailEnd len="med" type="arrow" w="med"/>
          </a:ln>
        </p:spPr>
      </p:cxnSp>
      <p:sp>
        <p:nvSpPr>
          <p:cNvPr id="100" name="Straight Connector 25"/>
          <p:cNvSpPr/>
          <p:nvPr/>
        </p:nvSpPr>
        <p:spPr>
          <a:xfrm flipH="1">
            <a:off x="130320" y="576360"/>
            <a:ext cx="1440" cy="5591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27"/>
          <p:cNvSpPr/>
          <p:nvPr/>
        </p:nvSpPr>
        <p:spPr>
          <a:xfrm>
            <a:off x="152280" y="5676840"/>
            <a:ext cx="91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ide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28"/>
          <p:cNvSpPr/>
          <p:nvPr/>
        </p:nvSpPr>
        <p:spPr>
          <a:xfrm>
            <a:off x="228600" y="576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F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ill defin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contro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hip to hip or half an arm’s length behind.  Match the hip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 of contro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rm’s length or more behind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run parallel with the wide receiver.  Do not run side by side with the receive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se look and lean technique---zone turn.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events natural drift on zone tur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e ball, feel wide receiver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event natural drift to field with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lea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Out of control---do not look back.  You will lose the receiver.  There is a natural drift to field (away from wr) that creates separation when you look back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wo indicators:  wide receiver head/hands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trip the ball, make the tackle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all being caught---go for strip with your closest arm.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Often slight hesitation by receiver to adjust to the football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Win late.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ook/Lean:  you must lean, work toward football, feel the receiver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on’t panic.  The only thing that matters is if the ball is caught or not.  Win lat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21:04:48Z</dcterms:created>
  <dc:creator>matt  fisher</dc:creator>
  <dc:description/>
  <dc:language>en-US</dc:language>
  <cp:lastModifiedBy>Ed Center RLASD</cp:lastModifiedBy>
  <dcterms:modified xsi:type="dcterms:W3CDTF">2010-04-28T15:38:50Z</dcterms:modified>
  <cp:revision>3</cp:revision>
  <dc:subject/>
  <dc:title>Defending the Fade </dc:title>
</cp:coreProperties>
</file>