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4CCE-1AF8-4385-803C-C348D07F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E64C-033E-4D51-875A-881025C8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C34D-208A-40B4-B04D-88788D6C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78CF-4D6B-4B7B-9287-7DA41261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FFE2-553E-4971-A896-64985D95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DAC3-1342-4A37-A87F-DBA55C4A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32D4-E7F5-4E2F-9789-4873E806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B23B-33B7-4CA5-A907-C74822E4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B19B-8447-4565-82FF-DEF40523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90E1-7464-41C7-953A-E979F808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5606-8E6B-49C6-8DE2-871DE35F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BCC4-5E97-48CD-9400-B7632F6F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DD9A-8FD2-4D84-A4D1-F0B7F0CD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F5E3-7CB8-4C33-BCA9-37C659EA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67CD-5064-43F1-A768-E9AA3D5B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2589-E4E5-41EE-80C5-E1178159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F75F-6822-4506-90ED-71BA5B67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FDA5-BB35-4DF2-B598-F928224A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3113-4196-409D-B46C-7B7AC09E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C6B-0400-465A-AFDB-170A540F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E176-2FE6-4AB2-B35B-72AF6BC2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F0F6-16D0-40CE-9340-98954D42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729-6AB2-4F29-BFA8-2764E7DC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094C-972E-4F49-B7CD-0A95EE0B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1B7FE-3560-45F5-BD42-E406E8E65E9D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BD7438-DA5C-4012-9671-FE38B19A347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EAA74-810E-4B44-A5E1-F29E03269DAD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32063-859A-4DFF-851D-13A10DA66F2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414360" y="1170000"/>
            <a:ext cx="8242200" cy="2322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ertical route by # 1 receiv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w risk, high reward pas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R has initial advantage on judgment---has had more reps with this type of pas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w Risk, High Reward Pa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ep Bal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d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ve Yard Highwa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 and Lea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Contro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 of Contro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cator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Run Parall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ch Hip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rizontal Separa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dicator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ead and Ey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and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atural Drif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oundar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Upfield Shoulde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utside Relea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rm’s Length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igh Poin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rst Access to Footbal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KEY QUESTIONS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4"/>
          <p:cNvSpPr/>
          <p:nvPr/>
        </p:nvSpPr>
        <p:spPr>
          <a:xfrm>
            <a:off x="716040" y="574560"/>
            <a:ext cx="73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iagram #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1965240" y="5959440"/>
            <a:ext cx="8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2127240" y="445140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Straight Connector 14"/>
          <p:cNvSpPr/>
          <p:nvPr/>
        </p:nvSpPr>
        <p:spPr>
          <a:xfrm flipV="1">
            <a:off x="1963800" y="3822840"/>
            <a:ext cx="1440" cy="2138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Straight Arrow Connector 16"/>
          <p:cNvCxnSpPr/>
          <p:nvPr/>
        </p:nvCxnSpPr>
        <p:spPr>
          <a:xfrm flipH="1" flipV="1">
            <a:off x="1031040" y="2115360"/>
            <a:ext cx="934200" cy="17074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6" name="TextBox 19"/>
          <p:cNvSpPr/>
          <p:nvPr/>
        </p:nvSpPr>
        <p:spPr>
          <a:xfrm>
            <a:off x="2627280" y="1606680"/>
            <a:ext cx="3614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Receiver attempts to create horizontal separation---fade to the ball.  QB can then lay the ball in.  We must cut off receiver.  Make the QB make a perfect throw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282600" y="2887560"/>
            <a:ext cx="10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WR wants grass, real est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21"/>
          <p:cNvSpPr/>
          <p:nvPr/>
        </p:nvSpPr>
        <p:spPr>
          <a:xfrm>
            <a:off x="5438880" y="59612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Q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" name="Straight Arrow Connector 23"/>
          <p:cNvCxnSpPr/>
          <p:nvPr/>
        </p:nvCxnSpPr>
        <p:spPr>
          <a:xfrm flipH="1" flipV="1">
            <a:off x="672480" y="1237680"/>
            <a:ext cx="4786920" cy="472356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arrow" w="med"/>
          </a:ln>
        </p:spPr>
      </p:cxnSp>
      <p:sp>
        <p:nvSpPr>
          <p:cNvPr id="100" name="Straight Connector 25"/>
          <p:cNvSpPr/>
          <p:nvPr/>
        </p:nvSpPr>
        <p:spPr>
          <a:xfrm flipH="1">
            <a:off x="130320" y="576360"/>
            <a:ext cx="1440" cy="5591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27"/>
          <p:cNvSpPr/>
          <p:nvPr/>
        </p:nvSpPr>
        <p:spPr>
          <a:xfrm>
            <a:off x="152280" y="5676840"/>
            <a:ext cx="9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ide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28"/>
          <p:cNvSpPr/>
          <p:nvPr/>
        </p:nvSpPr>
        <p:spPr>
          <a:xfrm>
            <a:off x="228600" y="576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ook Antiqua"/>
              </a:rPr>
              <a:t>F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defin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contro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hip to hip or half an arm’s length behind.  Match the hip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 of contro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rm’s length or more behind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run parallel with the wide receiver.  Do not run side by side with the receiv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 look and lean technique---zone turn.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vents natural drift on zone tur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e ball, feel wide receiver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vent natural drift to field with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lea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ut of control---do not look back.  You will lose the receiver.  There is a natural drift to field (away from wr) that creates separation when you look back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wo indicators:  wide receiver head/hands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trip the ball, make the tackl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all being caught---go for strip with your closest arm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ften slight hesitation by receiver to adjust to the football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in late.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ok/Lean:  you must lean, work toward football, feel the receiver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on’t panic.  The only thing that matters is if the ball is caught or not.  Win lat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21:04:48Z</dcterms:created>
  <dc:creator>matt  fisher</dc:creator>
  <dc:description/>
  <dc:language>en-US</dc:language>
  <cp:lastModifiedBy>Ed Center RLASD</cp:lastModifiedBy>
  <dcterms:modified xsi:type="dcterms:W3CDTF">2010-04-28T15:38:50Z</dcterms:modified>
  <cp:revision>3</cp:revision>
  <dc:subject/>
  <dc:title>Defending the Fade </dc:title>
</cp:coreProperties>
</file>