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11A-E7D0-462A-AA30-CD1F39CE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48C4-1903-445A-98DF-5DDECD26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A7F5-8BC6-4F77-B90E-C592F797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B18C-6769-4682-9D53-86B7E196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486E-6163-4926-A791-F1724059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4FD8-B8FD-4AD3-9863-B480026A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1444-3548-4033-B620-08B92AAB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AD91-A13F-41E9-98A3-016C3C61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318B-33D2-4BCA-85FD-B0A90895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73FB-90F5-459C-A79C-0216A123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A541-67D6-4AC2-B225-4609D79C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BBBD-ECA0-408F-A55C-C1B4AB85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8C70-2713-421E-B40E-AA0D4B1C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DE06-C444-4A49-891C-0907CFA3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6BBF-E403-4471-AE55-DA34AAF3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2627-4214-4AC5-8018-88947377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A449-C442-4A92-BF25-426DEF6A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1B8C-998E-4903-A7C7-85FB261E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08C5-647A-4348-9E17-0E2535B5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61EC-CA0C-4B2F-9291-C3BB8387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9DA4-5389-4A27-8A39-3F195876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8CB7-728A-4E73-8FEA-1678CF7C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CCB2-53A0-43C9-8FB9-45357BE3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5749-B462-47AD-A967-E8DC6CE5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0E7F5-6B36-49D5-B4D2-B3991FDFE8D0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0A805D-AE6D-4CA4-A27F-60E4F589576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755DAC-07C7-4141-AA76-DF415A0B9506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583AC1-7D55-4FA8-AB0A-CB6968737FB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2"/>
          <a:stretch/>
        </p:blipFill>
        <p:spPr>
          <a:xfrm>
            <a:off x="414360" y="1170000"/>
            <a:ext cx="8242200" cy="2322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ertical route by # 1 receive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w risk, high reward pas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R has initial advantage on judgment---has had more reps with this type of pas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w Risk, High Reward Pa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ep Bal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d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ve Yard Highwa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k and Lea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rat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Contro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 of Contro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icator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Run Parall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ch Hip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rizontal Separat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dicator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ead and Ey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and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atural Drif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oundar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Upfield Shoulder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utside Relea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rm’s Length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igh Poin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rst Access to Footbal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KEY QUESTIONS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4"/>
          <p:cNvSpPr/>
          <p:nvPr/>
        </p:nvSpPr>
        <p:spPr>
          <a:xfrm>
            <a:off x="716040" y="574560"/>
            <a:ext cx="73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iagram #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1965240" y="5959440"/>
            <a:ext cx="8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2127240" y="445140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Straight Connector 14"/>
          <p:cNvSpPr/>
          <p:nvPr/>
        </p:nvSpPr>
        <p:spPr>
          <a:xfrm flipV="1">
            <a:off x="1963800" y="3822840"/>
            <a:ext cx="1440" cy="2138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Straight Arrow Connector 16"/>
          <p:cNvCxnSpPr/>
          <p:nvPr/>
        </p:nvCxnSpPr>
        <p:spPr>
          <a:xfrm flipH="1" flipV="1">
            <a:off x="1031040" y="2115360"/>
            <a:ext cx="934200" cy="17074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6" name="TextBox 19"/>
          <p:cNvSpPr/>
          <p:nvPr/>
        </p:nvSpPr>
        <p:spPr>
          <a:xfrm>
            <a:off x="2627280" y="1606680"/>
            <a:ext cx="3614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Receiver attempts to create horizontal separation---fade to the ball.  QB can then lay the ball in.  We must cut off receiver.  Make the QB make a perfect throw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20"/>
          <p:cNvSpPr/>
          <p:nvPr/>
        </p:nvSpPr>
        <p:spPr>
          <a:xfrm>
            <a:off x="282600" y="2887560"/>
            <a:ext cx="10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WR wants grass, real est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21"/>
          <p:cNvSpPr/>
          <p:nvPr/>
        </p:nvSpPr>
        <p:spPr>
          <a:xfrm>
            <a:off x="5438880" y="59612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Q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" name="Straight Arrow Connector 23"/>
          <p:cNvCxnSpPr/>
          <p:nvPr/>
        </p:nvCxnSpPr>
        <p:spPr>
          <a:xfrm flipH="1" flipV="1">
            <a:off x="672480" y="1237680"/>
            <a:ext cx="4786920" cy="4723560"/>
          </a:xfrm>
          <a:prstGeom prst="straightConnector1">
            <a:avLst/>
          </a:prstGeom>
          <a:ln w="25560">
            <a:solidFill>
              <a:srgbClr val="ffffff"/>
            </a:solidFill>
            <a:prstDash val="sysDash"/>
            <a:miter/>
            <a:tailEnd len="med" type="arrow" w="med"/>
          </a:ln>
        </p:spPr>
      </p:cxnSp>
      <p:sp>
        <p:nvSpPr>
          <p:cNvPr id="100" name="Straight Connector 25"/>
          <p:cNvSpPr/>
          <p:nvPr/>
        </p:nvSpPr>
        <p:spPr>
          <a:xfrm flipH="1">
            <a:off x="130320" y="576360"/>
            <a:ext cx="1440" cy="5591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27"/>
          <p:cNvSpPr/>
          <p:nvPr/>
        </p:nvSpPr>
        <p:spPr>
          <a:xfrm>
            <a:off x="152280" y="5676840"/>
            <a:ext cx="9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ide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28"/>
          <p:cNvSpPr/>
          <p:nvPr/>
        </p:nvSpPr>
        <p:spPr>
          <a:xfrm>
            <a:off x="228600" y="576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F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defin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contro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hip to hip or half an arm’s length behind.  Match the hip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 of contro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rm’s length or more behind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run parallel with the wide receiver.  Do not run side by side with the receive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e look and lean technique---zone turn.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events natural drift on zone tur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e ball, feel wide receiver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event natural drift to field with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lea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ut of control---do not look back.  You will lose the receiver.  There is a natural drift to field (away from wr) that creates separation when you look back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wo indicators:  wide receiver head/hands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trip the ball, make the tackl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all being caught---go for strip with your closest arm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ften slight hesitation by receiver to adjust to the football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in late.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ok/Lean:  you must lean, work toward football, feel the receiver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on’t panic.  The only thing that matters is if the ball is caught or not.  Win lat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21:04:48Z</dcterms:created>
  <dc:creator>matt  fisher</dc:creator>
  <dc:description/>
  <dc:language>en-US</dc:language>
  <cp:lastModifiedBy>Ed Center RLASD</cp:lastModifiedBy>
  <dcterms:modified xsi:type="dcterms:W3CDTF">2010-04-28T15:38:50Z</dcterms:modified>
  <cp:revision>3</cp:revision>
  <dc:subject/>
  <dc:title>Defending the Fade </dc:title>
</cp:coreProperties>
</file>